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84760" y="0"/>
            <a:ext cx="2970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C78EC-C426-40C6-85A2-D959F9CE1D4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C4C77-AE4F-4E67-8470-234E35F4D9A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83F7D-7B18-47A4-975E-4797D7B7D44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78F458-E9B7-49BD-8663-855E66CE0F3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BE781-0716-488E-BD09-557E4366E8C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ACEA9E-0D23-4C32-84A0-06BAE3F3617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ADAD1-CF94-4C11-B630-F54F317C7E9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A5786-8ECB-4B3F-ADC5-024D5A333E9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3A70C-FDC7-4336-B861-CF4B1400B46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42D53-95BD-4926-9FDE-F07CAF3F7FF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096067-2CD4-4127-A32B-5EBB1FF76D0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43000" y="69516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BBB62-A690-4A74-8B0D-9990A9C24F3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143000" y="69516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AD34A-C873-47E1-946D-7010AC455F5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69516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B19A5B-2D58-4C09-9BE3-0DF02D44DCE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43000" y="69516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F2BD3-368B-47E3-BE97-B4652DE6B77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79691-F5A1-4C73-9E5D-E62FE672436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43000" y="69516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5CDB7-3E42-4EF5-8D26-69D9B8A60FA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43000" y="69516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AA56C-5B7B-44AF-AC28-150145B08A5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69516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1A623-2477-4872-B772-C27E25A9F1B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953EA-F6F9-4F24-AB59-655D2BFE607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B1848-F3CC-49A6-A2FB-2627982BF66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ED6B9-83D4-4914-A8B8-0CB5DD6FC9D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547870-A6D9-4907-9F26-C067529088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6E5F5-94AA-4F16-A48E-4B342C8C804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E4D27-C7D4-460A-8B71-3AD56EC5BCB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143000" y="69516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602C4-9671-480C-8DE1-E0EDE91A07F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43000" y="69516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F562A-4D4B-4723-972E-6134D380052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43000" y="69516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1CC9F-8309-4F02-BB2F-CEB1E473C64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5280C-C342-4F22-8899-0A4225564F4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34CDDE-7432-4473-8A14-FF86C894AE7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BC1C7-05DD-48F5-92CC-820AC6B7DED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F0967D-7B2C-455D-B0F8-201205F8E03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D211A-CC55-428E-AF6D-91FB83761FB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14DBA-AAC2-4FE8-A20F-DF9B4A19AF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36A1B-D513-4FB6-8FBA-85E8B037CA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CDF51-9C4B-4259-B10E-325D6FEA3E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734A7-B0F3-4D3D-ACF1-151D75FC79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FC44F-4947-44E6-86DB-AEDC7E7084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52052-FB2D-4239-9665-E6825FBE97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6DB44-98FB-4454-9904-531ABDA082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3B311-F7DE-4D95-8BB5-2FE636CB2A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A7B2E-931E-407D-B237-416C284478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A54E5-BD8A-4087-8F0E-F1B8266593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90A6A-E4BD-4715-B4FB-9373E35BB0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67DE8-0C10-4ED0-A78B-3B6D285B98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307200"/>
            <a:ext cx="2131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418A77-36D0-4EA6-9382-8CE4D97126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upload.wikimedia.org/wikipedia/commons/9/96/Nelder_Mead2.gif" TargetMode="External"/><Relationship Id="rId3" Type="http://schemas.openxmlformats.org/officeDocument/2006/relationships/hyperlink" Target="http://upload.wikimedia.org/wikipedia/commons/9/96/Nelder_Mead2.gif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79200" y="4565520"/>
            <a:ext cx="9324720" cy="2157480"/>
            <a:chOff x="-79200" y="4565520"/>
            <a:chExt cx="9324720" cy="2157480"/>
          </a:xfrm>
        </p:grpSpPr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-79200" y="4565520"/>
              <a:ext cx="9324720" cy="21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-79200" y="4565520"/>
              <a:ext cx="9324720" cy="21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-2004840" y="1468440"/>
            <a:ext cx="12922200" cy="3384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6751800"/>
            <a:ext cx="9144000" cy="212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1116000" y="907920"/>
            <a:ext cx="8028000" cy="57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réation de deux fonction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onction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codant le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birth and death proces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onction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prob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éliminant les valeurs biologiquement aberrantes retournées par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onction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vrai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: cherche quelles valeurs de λ et 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armi celles calculées par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prob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permett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d’estimer au mieux les temps observé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17427"/>
                </a:solidFill>
                <a:latin typeface="Calibri"/>
              </a:rPr>
              <a:t>prob(a, t1, t2,…, ta-1| l, m, T) = p1(T) x l(a-1) x Πp1(ti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ù a=nombre de taxa observés au temps pré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857520" cy="65534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9973"/>
                </a:solidFill>
                <a:latin typeface="Calibri"/>
              </a:rPr>
              <a:t>Méthodologi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3276720" y="2133720"/>
            <a:ext cx="2862000" cy="857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16000" y="836640"/>
            <a:ext cx="784872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3980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Définition d’une série de valeurs possibles pour λ et µ. Calcul des vraisemblances correspondantes grâce à </a:t>
            </a:r>
            <a:r>
              <a:rPr b="0" i="1" lang="fr-CH" sz="3000" spc="-1" strike="noStrike">
                <a:solidFill>
                  <a:srgbClr val="000000"/>
                </a:solidFill>
                <a:latin typeface="Calibri"/>
              </a:rPr>
              <a:t>vrais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. Intégration de ces valeurs de vraisemblance dans une matrice de stockage: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348000" y="2852640"/>
            <a:ext cx="3000240" cy="2786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9973"/>
                </a:solidFill>
                <a:latin typeface="Calibri"/>
              </a:rPr>
              <a:t>Méthodologie</a:t>
            </a:r>
            <a:r>
              <a:rPr b="0" lang="en-US" sz="43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5661000"/>
            <a:ext cx="7775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x → valeurs de vraisemblance propres aux combinaisons “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λ - µ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” testé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87280" y="907920"/>
            <a:ext cx="7777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3980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Représentation graphique et estimation visuelle des valeurs de λ et µ les plus vraisemblabl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7056720" cy="4265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9973"/>
                </a:solidFill>
                <a:latin typeface="Calibri"/>
              </a:rPr>
              <a:t>Méthodologi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9973"/>
                </a:solidFill>
                <a:latin typeface="Calibri"/>
              </a:rPr>
              <a:t>Méthodologi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187280" y="1125360"/>
            <a:ext cx="7777440" cy="51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lgorithme du simplex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animation simplex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0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D</a:t>
            </a:r>
            <a:r>
              <a:rPr b="0" lang="en-GB" sz="3000" spc="-1" strike="noStrike" u="sng">
                <a:solidFill>
                  <a:srgbClr val="000000"/>
                </a:solidFill>
                <a:uFillTx/>
                <a:latin typeface="Calibri"/>
              </a:rPr>
              <a:t>an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“R” on intégre cet alogrithme dans une nouvelle fonction baptisée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optimum2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réation préalable de la fonction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vrais2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qui s’oppose à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vrai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et qui calcule deux valeurs correspondants à λ et µ  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vrais2&lt;-function(x){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return(-vrais(x[1],x[2],t,T))}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1187280" y="1557360"/>
            <a:ext cx="77774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onction finale permettant de calculer 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valeurs de λ et µ les plus vraisemblabl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600" spc="-1" strike="noStrike">
                <a:solidFill>
                  <a:srgbClr val="0070c0"/>
                </a:solidFill>
                <a:latin typeface="Calibri"/>
              </a:rPr>
              <a:t>optimum2&lt;-function(time,T,start) {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fr-FR" sz="2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FR" sz="2600" spc="-1" strike="noStrike">
                <a:solidFill>
                  <a:srgbClr val="0070c0"/>
                </a:solidFill>
                <a:latin typeface="Calibri"/>
              </a:rPr>
              <a:t>vrais2&lt;-function(x){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fr-FR" sz="2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FR" sz="2600" spc="-1" strike="noStrike">
                <a:solidFill>
                  <a:srgbClr val="0070c0"/>
                </a:solidFill>
                <a:latin typeface="Calibri"/>
              </a:rPr>
              <a:t>return(-vrais(x[1],x[2],time,T))}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fr-FR" sz="2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FR" sz="2600" spc="-1" strike="noStrike">
                <a:solidFill>
                  <a:srgbClr val="0070c0"/>
                </a:solidFill>
                <a:latin typeface="Calibri"/>
              </a:rPr>
              <a:t>return(optim(start,vrais2,method="L-BFGS-B", lower=c(0,0)))}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9973"/>
                </a:solidFill>
                <a:latin typeface="Calibri"/>
              </a:rPr>
              <a:t>Méthodologi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87280" y="1197000"/>
            <a:ext cx="7777440" cy="49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6960" indent="-322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f60000"/>
                </a:solidFill>
                <a:latin typeface="Calibri"/>
              </a:rPr>
              <a:t>Les limites de la méthode utilisée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696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La fonction du maximum de vraisemblanc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6960" indent="-322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05b2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f17427"/>
                </a:solidFill>
                <a:latin typeface="Calibri"/>
              </a:rPr>
              <a:t>prob(a,t1,t2,…,ta-1|l,m,T) = p1(T) x l(a-1) x Πp1(ti)</a:t>
            </a:r>
            <a:r>
              <a:rPr b="0" lang="ar-SA" sz="2800" spc="-1" strike="noStrike">
                <a:solidFill>
                  <a:srgbClr val="f17427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696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Notre modèle (vrais2 et optimum2)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696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   →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Valeurs de vraisemblanc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696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ssez préci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696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Valeurs de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et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µ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696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biaisées (surtout m) par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influence de T sur      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  le modè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9973"/>
                </a:solidFill>
                <a:latin typeface="Calibri"/>
              </a:rPr>
              <a:t>Méthodologie</a:t>
            </a:r>
            <a:r>
              <a:rPr b="0" lang="en-US" sz="43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87280" y="1052640"/>
            <a:ext cx="77774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696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Seulement pour une valeur de T intermédiaire (=10 environ) → bonne estimation de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et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µ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696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696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2492280"/>
            <a:ext cx="6913440" cy="3951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9973"/>
                </a:solidFill>
                <a:latin typeface="Calibri"/>
              </a:rPr>
              <a:t>Méthodologie</a:t>
            </a:r>
            <a:r>
              <a:rPr b="0" lang="en-US" sz="43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332000" y="1052640"/>
            <a:ext cx="7561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696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our T petit →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µ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=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696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ucune exctinction observées. Espèces “jeunes”; faible probabilité qu’elles disparaissent dans un petit intervalle 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696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2349360"/>
            <a:ext cx="37908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203640" y="3357720"/>
            <a:ext cx="3219480" cy="3095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9973"/>
                </a:solidFill>
                <a:latin typeface="Calibri"/>
              </a:rPr>
              <a:t>Méthodologie</a:t>
            </a:r>
            <a:r>
              <a:rPr b="0" lang="en-US" sz="43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87280" y="1079640"/>
            <a:ext cx="7777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696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Exemple: T= 0.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7442280" cy="4303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9973"/>
                </a:solidFill>
                <a:latin typeface="Calibri"/>
              </a:rPr>
              <a:t>Méthodologie</a:t>
            </a:r>
            <a:r>
              <a:rPr b="0" lang="en-US" sz="43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724280"/>
            <a:ext cx="720720" cy="72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812000" y="2421000"/>
            <a:ext cx="720720" cy="72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03640" y="5589720"/>
            <a:ext cx="338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aximum de vraisembl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4932360" y="5229360"/>
            <a:ext cx="1511280" cy="287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516720" y="3141360"/>
            <a:ext cx="1440000" cy="2343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843280" y="3284640"/>
            <a:ext cx="4140000" cy="30607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187280" y="1267920"/>
            <a:ext cx="7677360" cy="15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our T grand →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= 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ntervalle de temps plus long → plus de probabilité qu’une espèce disparaiss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9973"/>
                </a:solidFill>
                <a:latin typeface="Calibri"/>
              </a:rPr>
              <a:t>Méthodologie</a:t>
            </a:r>
            <a:r>
              <a:rPr b="0" lang="en-US" sz="43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79640" y="1773360"/>
            <a:ext cx="69850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ts principaux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térêt et pertinence du travai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textualisation du projet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éthodologi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ésultats et discuss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erspecti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9973"/>
                </a:solidFill>
                <a:latin typeface="Calibri"/>
              </a:rPr>
              <a:t>Plan de la présentation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87280" y="1052640"/>
            <a:ext cx="7500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696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Exemple: T=3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7464240" cy="4246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9973"/>
                </a:solidFill>
                <a:latin typeface="Calibri"/>
              </a:rPr>
              <a:t>Méthodologie</a:t>
            </a:r>
            <a:r>
              <a:rPr b="0" lang="en-US" sz="43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20490000">
            <a:off x="5508720" y="2852640"/>
            <a:ext cx="2303280" cy="287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651640" y="3284640"/>
            <a:ext cx="792000" cy="2449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27640" y="566100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CH" sz="1800" spc="-1" strike="noStrike">
                <a:solidFill>
                  <a:srgbClr val="ff0000"/>
                </a:solidFill>
                <a:latin typeface="Arial"/>
              </a:rPr>
              <a:t>Maximum de vraisemblance pour l=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773400">
            <a:off x="1673640" y="3663000"/>
            <a:ext cx="356544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3634920" y="4076640"/>
            <a:ext cx="1871640" cy="165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258920" y="836640"/>
            <a:ext cx="763416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696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Visualisation par les histogramm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9973"/>
                </a:solidFill>
                <a:latin typeface="Calibri"/>
              </a:rPr>
              <a:t>Méthodologie</a:t>
            </a:r>
            <a:r>
              <a:rPr b="0" lang="en-US" sz="43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979640" y="1341360"/>
            <a:ext cx="6048360" cy="5448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9973"/>
                </a:solidFill>
                <a:latin typeface="Calibri"/>
              </a:rPr>
              <a:t>Méthodologie</a:t>
            </a:r>
            <a:r>
              <a:rPr b="0" lang="en-US" sz="43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87280" y="2565360"/>
            <a:ext cx="71298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00000"/>
              </a:lnSpc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  <a:ea typeface="Arial"/>
              </a:rPr>
              <a:t>Donc, le choix du T est fondament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  <a:ea typeface="Arial"/>
              </a:rPr>
              <a:t>lors des analyses phylogénétiqu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  <a:ea typeface="Arial"/>
              </a:rPr>
              <a:t>si nous voulons de bonnes estim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  <a:ea typeface="Arial"/>
              </a:rPr>
              <a:t>des paramètres recherchés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87280" y="836640"/>
            <a:ext cx="77774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696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utre biais (étant donné un T intermédiaire)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696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Nombre d'espèces au temps actuel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→ plus n est grand et plus le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estimations sont précis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9973"/>
                </a:solidFill>
                <a:latin typeface="Calibri"/>
              </a:rPr>
              <a:t>Méthodologie</a:t>
            </a:r>
            <a:r>
              <a:rPr b="0" lang="en-US" sz="43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00360" y="2349360"/>
            <a:ext cx="4753080" cy="4367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116000" y="907920"/>
            <a:ext cx="7848720" cy="57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On veut tester si le type de pollinisateurs chez les plantes des genres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Nematanthu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et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Codonanthe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a un effet sur les valeurs de λ et µ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Extraction des valeurs de t à partir des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données phylogénétiques concernant les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genres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Codonanthe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et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Nematanthu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afin de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ouvoir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ppliquer la fonction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optimum2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réation de deux modèl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. un modèle général groupant toutes les plant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. un modèle séparant les plantes en fonction du 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ollinisateu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87280" y="2781360"/>
            <a:ext cx="355680" cy="212760"/>
          </a:xfrm>
          <a:prstGeom prst="rightArrow">
            <a:avLst>
              <a:gd name="adj1" fmla="val 50000"/>
              <a:gd name="adj2" fmla="val 522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9973"/>
                </a:solidFill>
                <a:latin typeface="Calibri"/>
              </a:rPr>
              <a:t>Résulta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87280" y="4869000"/>
            <a:ext cx="355680" cy="212760"/>
          </a:xfrm>
          <a:prstGeom prst="rightArrow">
            <a:avLst>
              <a:gd name="adj1" fmla="val 50000"/>
              <a:gd name="adj2" fmla="val 522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87280" y="1484280"/>
            <a:ext cx="7777440" cy="40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. Modèle général regroupant toutes les plan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ndépendamment du pollinisateu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l-GR" sz="2600" spc="-1" strike="noStrike">
                <a:solidFill>
                  <a:srgbClr val="0070c0"/>
                </a:solidFill>
                <a:latin typeface="Calibri"/>
              </a:rPr>
              <a:t>λ</a:t>
            </a:r>
            <a:r>
              <a:rPr b="0" lang="fr-CH" sz="2600" spc="-1" strike="noStrike">
                <a:solidFill>
                  <a:srgbClr val="0070c0"/>
                </a:solidFill>
                <a:latin typeface="Calibri"/>
              </a:rPr>
              <a:t> (speciation) = 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0.472580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fr-CH" sz="2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l-GR" sz="2600" spc="-1" strike="noStrike">
                <a:solidFill>
                  <a:srgbClr val="0070c0"/>
                </a:solidFill>
                <a:latin typeface="Calibri"/>
              </a:rPr>
              <a:t>μ</a:t>
            </a:r>
            <a:r>
              <a:rPr b="0" lang="fr-CH" sz="2600" spc="-1" strike="noStrike">
                <a:solidFill>
                  <a:srgbClr val="0070c0"/>
                </a:solidFill>
                <a:latin typeface="Calibri"/>
              </a:rPr>
              <a:t> (extinction) = 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0.00000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log (vraisemblance) = 78.7296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9973"/>
                </a:solidFill>
                <a:latin typeface="Calibri"/>
              </a:rPr>
              <a:t>Résulta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8920" y="2133720"/>
            <a:ext cx="3817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22228b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22228b"/>
                </a:solidFill>
                <a:latin typeface="Calibri"/>
              </a:rPr>
              <a:t>Espèces pollinisées pa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22228b"/>
                </a:solidFill>
                <a:latin typeface="Calibri"/>
              </a:rPr>
              <a:t>des abeilles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l-GR" sz="2600" spc="-1" strike="noStrike">
                <a:solidFill>
                  <a:srgbClr val="0070c0"/>
                </a:solidFill>
                <a:latin typeface="Calibri"/>
              </a:rPr>
              <a:t>λ</a:t>
            </a:r>
            <a:r>
              <a:rPr b="0" lang="fr-CH" sz="2600" spc="-1" strike="noStrike">
                <a:solidFill>
                  <a:srgbClr val="0070c0"/>
                </a:solidFill>
                <a:latin typeface="Calibri"/>
              </a:rPr>
              <a:t> (speciation) = 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0.472217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l-GR" sz="2600" spc="-1" strike="noStrike">
                <a:solidFill>
                  <a:srgbClr val="0070c0"/>
                </a:solidFill>
                <a:latin typeface="Calibri"/>
              </a:rPr>
              <a:t>μ</a:t>
            </a:r>
            <a:r>
              <a:rPr b="0" lang="fr-CH" sz="2600" spc="-1" strike="noStrike">
                <a:solidFill>
                  <a:srgbClr val="0070c0"/>
                </a:solidFill>
                <a:latin typeface="Calibri"/>
              </a:rPr>
              <a:t> (extinction) = 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0.00000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log (vraisemblance) = 40.25728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984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48360" y="2060640"/>
            <a:ext cx="381636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Espèces pollinisées par des colibr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600" spc="-1" strike="noStrike">
                <a:solidFill>
                  <a:srgbClr val="0070c0"/>
                </a:solidFill>
                <a:latin typeface="Calibri"/>
              </a:rPr>
              <a:t>λ</a:t>
            </a:r>
            <a:r>
              <a:rPr b="0" lang="fr-CH" sz="2600" spc="-1" strike="noStrike">
                <a:solidFill>
                  <a:srgbClr val="0070c0"/>
                </a:solidFill>
                <a:latin typeface="Calibri"/>
              </a:rPr>
              <a:t> (speciation) = 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0.486183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600" spc="-1" strike="noStrike">
                <a:solidFill>
                  <a:srgbClr val="0070c0"/>
                </a:solidFill>
                <a:latin typeface="Calibri"/>
              </a:rPr>
              <a:t>μ</a:t>
            </a:r>
            <a:r>
              <a:rPr b="0" lang="fr-CH" sz="2600" spc="-1" strike="noStrike">
                <a:solidFill>
                  <a:srgbClr val="0070c0"/>
                </a:solidFill>
                <a:latin typeface="Calibri"/>
              </a:rPr>
              <a:t> (extinction) = 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0.00000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log (vraisemblance) = 34.4233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258920" y="907920"/>
            <a:ext cx="7643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B. Modèle séparant les plantes en fonction du pollinisateur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9973"/>
                </a:solidFill>
                <a:latin typeface="Calibri"/>
              </a:rPr>
              <a:t>Résulta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87280" y="1052640"/>
            <a:ext cx="77504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On fait un test du chi</a:t>
            </a:r>
            <a:r>
              <a:rPr b="0" lang="en-GB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pour comparer la vraisemblances de ces deux modèl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 : Les vraisemblances des deux modèles ne sont pas significativement différentes, et le type de pollinisateurs n’a donc pas d’effet sur les taux de spéciation et d’extinctio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 : Les vraisemblances des deux modèles sont significativement différentes, le type de pollinisateurs a donc un effet sur les taux de spéciation et d’extinctio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9973"/>
                </a:solidFill>
                <a:latin typeface="Calibri"/>
              </a:rPr>
              <a:t>Résulta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87280" y="836640"/>
            <a:ext cx="777744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3980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Valeurs de vraisemblance obtenues pour nos deux modèl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3980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3980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log(total) = 78.72969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 → H</a:t>
            </a:r>
            <a:r>
              <a:rPr b="0" lang="en-GB" sz="2600" spc="-1" strike="noStrike" baseline="-25000">
                <a:solidFill>
                  <a:srgbClr val="0070c0"/>
                </a:solidFill>
                <a:latin typeface="Calibri"/>
              </a:rPr>
              <a:t>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3980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log(abeilles) = 40.25728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3980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log(colibris) = 34.4233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3980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3980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est du chi</a:t>
            </a:r>
            <a:r>
              <a:rPr b="0" lang="en-GB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3980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3980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l-GR" sz="2600" spc="-1" strike="noStrike">
                <a:solidFill>
                  <a:srgbClr val="0070c0"/>
                </a:solidFill>
                <a:latin typeface="Calibri"/>
              </a:rPr>
              <a:t>Χ</a:t>
            </a:r>
            <a:r>
              <a:rPr b="0" lang="fr-CH" sz="26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r>
              <a:rPr b="0" lang="fr-CH" sz="2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= -2*( H</a:t>
            </a:r>
            <a:r>
              <a:rPr b="0" lang="en-GB" sz="2600" spc="-1" strike="noStrike" baseline="-25000">
                <a:solidFill>
                  <a:srgbClr val="0070c0"/>
                </a:solidFill>
                <a:latin typeface="Calibri"/>
              </a:rPr>
              <a:t>0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 – H</a:t>
            </a:r>
            <a:r>
              <a:rPr b="0" lang="en-GB" sz="2600" spc="-1" strike="noStrike" baseline="-25000">
                <a:solidFill>
                  <a:srgbClr val="0070c0"/>
                </a:solidFill>
                <a:latin typeface="Calibri"/>
              </a:rPr>
              <a:t>1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 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3980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df = 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3980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p-value = 0.860397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3980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3980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-value &gt; 5% → H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ne peut pas être rejetté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9973"/>
                </a:solidFill>
                <a:latin typeface="Calibri"/>
              </a:rPr>
              <a:t>Résulta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35640" y="2565360"/>
            <a:ext cx="288720" cy="792360"/>
          </a:xfrm>
          <a:custGeom>
            <a:avLst/>
            <a:gdLst>
              <a:gd name="textAreaLeft" fmla="*/ 0 w 288720"/>
              <a:gd name="textAreaRight" fmla="*/ 104040 w 2887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52160" y="2708280"/>
            <a:ext cx="8560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→ 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H</a:t>
            </a:r>
            <a:r>
              <a:rPr b="0" lang="en-GB" sz="2600" spc="-1" strike="noStrike" baseline="-25000">
                <a:solidFill>
                  <a:srgbClr val="0070c0"/>
                </a:solidFill>
                <a:latin typeface="Calibri"/>
              </a:rPr>
              <a:t>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87280" y="981000"/>
            <a:ext cx="7956720" cy="55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4800" indent="-604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t biologiqu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4800" indent="-604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éterminer si le type de pollinisateurs influence l’évolution des plantes appartenant au complexe d'espèces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Codonanth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et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Nematanth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4800" indent="-604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4800" indent="-604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t mathématiqu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4800" indent="-604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ttre en place un modèle permettant d’estimer, sur la base de données phylogénétiques, les taux d’extinction et de spéciation en utilisant la méthode du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maximum de vraisembla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9973"/>
                </a:solidFill>
                <a:latin typeface="Calibri"/>
              </a:rPr>
              <a:t>Buts principaux</a:t>
            </a:r>
            <a:r>
              <a:rPr b="0" lang="en-US" sz="43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87280" y="981000"/>
            <a:ext cx="777744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696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Elimination du biais en enlevant T, l'équation devient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f81bd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f17427"/>
                </a:solidFill>
                <a:latin typeface="Calibri"/>
              </a:rPr>
              <a:t>prob(t1,t2,…,ta-1|n,l,m,T) = Π [p1(ti)dti / ∫T0 p1(u)du]</a:t>
            </a:r>
            <a:r>
              <a:rPr b="0" lang="en-GB" sz="2400" spc="-1" strike="noStrike">
                <a:solidFill>
                  <a:srgbClr val="4f81bd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ette fonction nous ayant été donnée, nous avons pu établir la comparaison suivante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GB" sz="8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Fonction sans biai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l-GR" sz="2600" spc="-1" strike="noStrike">
                <a:solidFill>
                  <a:srgbClr val="0070c0"/>
                </a:solidFill>
                <a:latin typeface="Calibri"/>
              </a:rPr>
              <a:t>λ</a:t>
            </a:r>
            <a:r>
              <a:rPr b="0" lang="fr-CH" sz="2600" spc="-1" strike="noStrike">
                <a:solidFill>
                  <a:srgbClr val="0070c0"/>
                </a:solidFill>
                <a:latin typeface="Calibri"/>
              </a:rPr>
              <a:t> (speciation) =</a:t>
            </a:r>
            <a:r>
              <a:rPr b="0" lang="fr-CH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0.4737472</a:t>
            </a: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→ Semblable à:</a:t>
            </a: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0.472580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l-GR" sz="2600" spc="-1" strike="noStrike">
                <a:solidFill>
                  <a:srgbClr val="0070c0"/>
                </a:solidFill>
                <a:latin typeface="Calibri"/>
              </a:rPr>
              <a:t>μ</a:t>
            </a:r>
            <a:r>
              <a:rPr b="0" lang="fr-CH" sz="2600" spc="-1" strike="noStrike">
                <a:solidFill>
                  <a:srgbClr val="0070c0"/>
                </a:solidFill>
                <a:latin typeface="Calibri"/>
              </a:rPr>
              <a:t> (extinction) = </a:t>
            </a:r>
            <a:r>
              <a:rPr b="0" lang="fr-CH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0.0007526793</a:t>
            </a: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→ Mieux que:</a:t>
            </a: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0.00000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9973"/>
                </a:solidFill>
                <a:latin typeface="Calibri"/>
              </a:rPr>
              <a:t>Perspec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115640" y="765000"/>
            <a:ext cx="7885080" cy="59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0">
              <a:spcBef>
                <a:spcPts val="799"/>
              </a:spcBef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Enfin: nous avons un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ratio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λ/µ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élevé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26960" indent="0">
              <a:spcBef>
                <a:spcPts val="700"/>
              </a:spcBef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λ/µ =  0.4737472/0.0007526793 = 629.414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26960" indent="0">
              <a:spcBef>
                <a:spcPts val="799"/>
              </a:spcBef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En principe, ce ratio est compris entre 2 et 3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26960" indent="0">
              <a:spcBef>
                <a:spcPts val="799"/>
              </a:spcBef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auses: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- type de pollinisateurs? → N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- séparations géographiques → création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de nouvelles niches écologiques 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- adaptation rapide à des niches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écologiques très spécialisées 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- 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Il reste encore beaucoup de pistes à investiguer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/>
          <p:nvPr/>
        </p:nvSpPr>
        <p:spPr>
          <a:xfrm>
            <a:off x="1403280" y="5516640"/>
            <a:ext cx="755640" cy="431640"/>
          </a:xfrm>
          <a:prstGeom prst="rightArrow">
            <a:avLst>
              <a:gd name="adj1" fmla="val 50000"/>
              <a:gd name="adj2" fmla="val 43766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6372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9973"/>
                </a:solidFill>
                <a:latin typeface="Calibri"/>
              </a:rPr>
              <a:t>Perspec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32000" y="1700280"/>
            <a:ext cx="7356240" cy="35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spect biologiqu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Nous avons constaté que le type de pollinisateurs n’influence pas les taux de spéciation et d’extinction dans le cas étudié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spect mathématiqu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Nous avons mis en place un modèle et nous avons pu en percevoir les limit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9973"/>
                </a:solidFill>
                <a:latin typeface="Calibri"/>
              </a:rPr>
              <a:t>Conclu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332000" y="1844640"/>
            <a:ext cx="744048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Nous tenons à remercier Nicolas Salamin pour la qualité de son encadrement, sa disponibilité et sa patience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GB" sz="3000" spc="-1" strike="noStrike">
                <a:solidFill>
                  <a:srgbClr val="f60000"/>
                </a:solidFill>
                <a:latin typeface="Calibri"/>
              </a:rPr>
              <a:t>Merci de votre atten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9973"/>
                </a:solidFill>
                <a:latin typeface="Calibri"/>
              </a:rPr>
              <a:t>Remercie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39.92"/>
                                  </p:iterate>
                                  <p:childTnLst>
                                    <p:set>
                                      <p:cBhvr>
                                        <p:cTn id="3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66" fill="hold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3" fill="hold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41" fill="hold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8" dur="6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6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1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6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6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58920" y="1628640"/>
            <a:ext cx="756108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4800" indent="-60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préhension de différents phénomènes évolutifs et des facteurs qui les influenc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4800" indent="-604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4800" indent="-60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tilisation et interprétation des données phylogénétiqu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4800" indent="-604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4800" indent="-60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illeure compréhension de l’origine de la biodiversit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4800" indent="-604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9973"/>
                </a:solidFill>
                <a:latin typeface="Calibri"/>
              </a:rPr>
              <a:t>Intérêts et pertinence du projet</a:t>
            </a:r>
            <a:r>
              <a:rPr b="0" lang="en-US" sz="43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58920" y="1052640"/>
            <a:ext cx="763416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-Famille des Gesneriaceae (Eudicot, Asteridées)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-Amérique Centrale et Amérique du Su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Diversité de pollinisateu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-Genre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Codonant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(environ 20 esp.)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-Genre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Nemantanthu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(environ 30 esp.)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940360" y="2637000"/>
            <a:ext cx="1643040" cy="2009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9973"/>
                </a:solidFill>
                <a:latin typeface="Calibri"/>
              </a:rPr>
              <a:t>Contextualisation du projet</a:t>
            </a:r>
            <a:r>
              <a:rPr b="0" lang="en-US" sz="43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692360" y="4653000"/>
            <a:ext cx="1714320" cy="191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455920" y="3244680"/>
            <a:ext cx="5211720" cy="3497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43000" y="857160"/>
            <a:ext cx="80010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Variables recherché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λ = taux de spéciation   μ = taux d’extinct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Variables connu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 = temps de diverge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 = temps de divergence de l’outgrou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9973"/>
                </a:solidFill>
                <a:latin typeface="Calibri"/>
              </a:rPr>
              <a:t>Contextualisation du projet</a:t>
            </a:r>
            <a:r>
              <a:rPr b="0" lang="en-US" sz="43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16000" y="1197000"/>
            <a:ext cx="784872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Séquençages de trois gènes communs à toutes les plantes d’intérê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2. Alignement de séquences par le programme MUSC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258920" y="3645000"/>
            <a:ext cx="7686720" cy="2552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9973"/>
                </a:solidFill>
                <a:latin typeface="Calibri"/>
              </a:rPr>
              <a:t>Contextualisation du projet</a:t>
            </a:r>
            <a:r>
              <a:rPr b="0" lang="en-US" sz="43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16000" y="981000"/>
            <a:ext cx="8028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stimation du nombre de substitutions par lignées et génération d’un arbre phylogénétique moléculai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851280" y="1989000"/>
            <a:ext cx="4295880" cy="24195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16000" y="4437000"/>
            <a:ext cx="802800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stimation d’un taux de mutation propre à chaque espèce à l’aide d’un modèle d'autocorrélation de l'évolution des taux de mutations → arbre phylogénétique avec datation « relative 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9973"/>
                </a:solidFill>
                <a:latin typeface="Calibri"/>
              </a:rPr>
              <a:t>Contextualisation du projet</a:t>
            </a:r>
            <a:r>
              <a:rPr b="0" lang="en-US" sz="43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16000" y="981000"/>
            <a:ext cx="784872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tilisation d’un fossile d’âge connu et assimilé à nos espèces d’intérêts comme référence temporelle → arbre phylogénétique avec datation « absolue 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tten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ces différentes étapes utilisent des modèles et comportent des approximations    →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s résultats obtenus sont des estim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7520" cy="6553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9973"/>
                </a:solidFill>
                <a:latin typeface="Calibri"/>
              </a:rPr>
              <a:t>Contextualisation du projet</a:t>
            </a:r>
            <a:r>
              <a:rPr b="0" lang="en-US" sz="43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ueller Linda</dc:creator>
  <dc:description/>
  <dc:language>en-US</dc:language>
  <cp:lastModifiedBy>Vincent</cp:lastModifiedBy>
  <dcterms:modified xsi:type="dcterms:W3CDTF">2009-05-28T11:04:37Z</dcterms:modified>
  <cp:revision>52</cp:revision>
  <dc:subject/>
  <dc:title>Estimating rate of speciation and extinction in a tropical plant </dc:title>
</cp:coreProperties>
</file>